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1BC9-1B0A-4D42-AB39-33DD7B050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F9CB-4032-4B1E-9598-918C51A2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E74B-5CEA-42CE-A82E-B5C8BBCB6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E51F-6243-4B69-9521-625AB7BEB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D2B5-A484-4308-B641-00860BD9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0D55-D6EE-400D-A701-83CCCAC3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CE68-FB83-4933-84F6-7D446AC9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28C5-80BD-4F6A-9D1E-09D50023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79CC-ABA0-4A03-94D3-349DB2CD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E3B4-B3F2-4A08-B71A-BB080336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1782-6725-4A74-A503-209EFA22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BBC4-0EA2-493B-AD95-5178DED2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EDF5-0240-4BEF-87B3-E8E0D216D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06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RTE DES FORCES EN 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9440" y="1600200"/>
            <a:ext cx="1125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dhé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9600" y="2747880"/>
            <a:ext cx="14331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oopé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162920" y="457200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08640" y="4572000"/>
            <a:ext cx="1754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457200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4572000"/>
            <a:ext cx="17510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62920" y="114300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162920" y="228600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08640" y="3429000"/>
            <a:ext cx="1754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62920" y="342900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57600" y="3429000"/>
            <a:ext cx="17510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57600" y="2286000"/>
            <a:ext cx="17510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1143000"/>
            <a:ext cx="17510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08640" y="1143000"/>
            <a:ext cx="1754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8640" y="2286000"/>
            <a:ext cx="1754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05120" y="342900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228600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114300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905120" y="1143000"/>
            <a:ext cx="701028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45640" y="3809880"/>
            <a:ext cx="904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ntérê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880" y="4957920"/>
            <a:ext cx="1084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assivit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73240" y="5943600"/>
            <a:ext cx="13921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oncil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86000" y="5948280"/>
            <a:ext cx="999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rit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85400" y="5948280"/>
            <a:ext cx="1297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p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528680" y="5948280"/>
            <a:ext cx="1049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ostilit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36:16Z</dcterms:modified>
  <cp:revision>72</cp:revision>
  <dc:subject/>
  <dc:title>Contrôle interne des risques</dc:title>
</cp:coreProperties>
</file>